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A1AF-6A6E-48F4-A43A-255EF8F28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5090-2D63-4973-A2D7-CE755AF0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E101-558B-4D79-A52E-D662C4C03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FBD5-3BB0-43C9-AC5B-1B7DC4F99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F509-13FF-4DA0-9200-26485230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3F42-E2D2-4126-881C-3FB1C572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B9A3-D443-4709-A4A0-325EA731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3D29-3F7C-4BF0-BB06-FB2CBD21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4839-E823-4B01-89A7-C3DF593C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E1CE-98A2-4960-A407-535A630B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FA18-FAA2-4BE7-84AC-ECD8E344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1A55-274F-4343-A202-0D9431CA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E3CC-A03C-4FFA-8C89-1FE92D4D5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2276640"/>
            <a:ext cx="287964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lületi oxidréteg tökéletes, homogén oldá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580000" y="2060640"/>
            <a:ext cx="3360960" cy="10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speciális paksi ausztenites acél felületekre való alkalmassá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(4. Gf és 1-3 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Hibrid és normál összetételű oxidrétegek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3429000"/>
            <a:ext cx="17301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óziscsökkentés 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189000"/>
            <a:ext cx="2687400" cy="83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Technológia alape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-Dekontaminációs technoló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-Felületkezelési technoló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08360" y="2421000"/>
            <a:ext cx="1728720" cy="0"/>
          </a:xfrm>
          <a:prstGeom prst="line">
            <a:avLst/>
          </a:prstGeom>
          <a:ln w="1144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84720" y="981000"/>
            <a:ext cx="863640" cy="863640"/>
          </a:xfrm>
          <a:prstGeom prst="line">
            <a:avLst/>
          </a:prstGeom>
          <a:ln w="1144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763640" y="907920"/>
            <a:ext cx="1008000" cy="865440"/>
          </a:xfrm>
          <a:prstGeom prst="line">
            <a:avLst/>
          </a:prstGeom>
          <a:ln w="1144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333360"/>
            <a:ext cx="17301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da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11280" y="4762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03280" y="278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45320" y="3573360"/>
            <a:ext cx="16556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őzfejlesztő Adatbáz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7740720" y="30682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84720" y="4653000"/>
            <a:ext cx="0" cy="934920"/>
          </a:xfrm>
          <a:prstGeom prst="line">
            <a:avLst/>
          </a:prstGeom>
          <a:ln w="114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79280" y="3860640"/>
            <a:ext cx="3646440" cy="73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Új technológia elméleti kialakítása vagy egy meglévő módosítá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84360" y="0"/>
            <a:ext cx="0" cy="934920"/>
          </a:xfrm>
          <a:prstGeom prst="line">
            <a:avLst/>
          </a:prstGeom>
          <a:ln w="114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43640" y="2708280"/>
            <a:ext cx="1727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Előoxidáci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1773360"/>
            <a:ext cx="2808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echnológia alape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372360" y="1052640"/>
            <a:ext cx="17269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sziválá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56000" y="4365720"/>
            <a:ext cx="36464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ológia költsé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59280" y="2708280"/>
            <a:ext cx="0" cy="792000"/>
          </a:xfrm>
          <a:prstGeom prst="line">
            <a:avLst/>
          </a:prstGeom>
          <a:ln w="114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96000" y="2421000"/>
            <a:ext cx="4316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867280" y="1413000"/>
            <a:ext cx="433440" cy="285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3716280"/>
            <a:ext cx="36464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lladékkezel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43640" y="1916280"/>
            <a:ext cx="16556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őzfejlesztő Adatbáz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796000" y="2060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9308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93080" y="2276280"/>
            <a:ext cx="0" cy="36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1773360"/>
            <a:ext cx="17272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ológia megvalósítá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404640"/>
            <a:ext cx="17272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orróziós, eróziós folyamatok értelmezé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4858920" y="90792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907920"/>
            <a:ext cx="17272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Regeneratív, on-line koncentrációszabályozá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1916280"/>
            <a:ext cx="576000" cy="0"/>
          </a:xfrm>
          <a:prstGeom prst="line">
            <a:avLst/>
          </a:prstGeom>
          <a:ln w="540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87280" y="141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851280" y="3789360"/>
            <a:ext cx="433440" cy="285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4221000"/>
            <a:ext cx="431640" cy="28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09:09:24Z</dcterms:created>
  <dc:creator>Radó Krisztián</dc:creator>
  <dc:description/>
  <dc:language>en-US</dc:language>
  <cp:lastModifiedBy>Radó Krisztián</cp:lastModifiedBy>
  <dcterms:modified xsi:type="dcterms:W3CDTF">2004-10-08T09:49:36Z</dcterms:modified>
  <cp:revision>16</cp:revision>
  <dc:subject/>
  <dc:title>1. dia</dc:title>
</cp:coreProperties>
</file>